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62411"/>
        <c:axId val="74834534"/>
      </c:barChart>
      <c:catAx>
        <c:axId val="96462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34534"/>
        <c:crosses val="autoZero"/>
        <c:auto val="1"/>
        <c:lblAlgn val="ctr"/>
        <c:lblOffset val="100"/>
        <c:noMultiLvlLbl val="0"/>
      </c:catAx>
      <c:valAx>
        <c:axId val="74834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62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09C-F433-4F29-916E-326405A14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162-88D9-40D8-979F-C6E8524A4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EAF9-2338-488A-97BB-DBEADE24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B32E-B48D-422E-B721-5202A2BB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6FB-0F7F-464D-8EA5-304300C8D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F42-4E8C-4308-98D4-76B46DEC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2003-D148-4E42-87C8-835653E5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A32-8578-4F48-BB79-E02EADA1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DBA-3B26-4EF7-81BA-D983D8D4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41C7-A21E-4841-A1A2-A529DAF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4EC-0CAA-4D6A-BDC0-D3E0C6EF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F847-4E23-477E-B326-2E472690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3EAE1-13F1-44BC-A154-0E1BB36BF8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