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87738"/>
        <c:axId val="79655010"/>
      </c:barChart>
      <c:catAx>
        <c:axId val="97987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55010"/>
        <c:crosses val="autoZero"/>
        <c:auto val="1"/>
        <c:lblAlgn val="ctr"/>
        <c:lblOffset val="100"/>
        <c:noMultiLvlLbl val="0"/>
      </c:catAx>
      <c:valAx>
        <c:axId val="796550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7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8D85-71AA-43B8-BFC8-1B98AEED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58D-B042-4108-8EFF-A7246D49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CE91-6BB1-4D87-BE07-DF38FA35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1F7-953F-4890-8762-3B3BC914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4D2-C8E7-4F1C-A102-E53A3B64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BFA-DAB2-4E49-A0B2-DA2CFF9A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E11-01C5-4BFA-8172-1EAB8B0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A0A-3B0D-4E4F-A504-EC6F2D69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729-1F85-4081-BD4D-423E3BA2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BCE-25A6-4A94-A5E8-0D3918F8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270-FBC9-45C3-96E5-A9C2C76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003-BB8F-4389-941C-382CFBF9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ED26E-6E4D-4973-A4E1-D2CCD2A88B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