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36065"/>
        <c:axId val="80570981"/>
      </c:barChart>
      <c:catAx>
        <c:axId val="20036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70981"/>
        <c:crosses val="autoZero"/>
        <c:auto val="1"/>
        <c:lblAlgn val="ctr"/>
        <c:lblOffset val="100"/>
        <c:noMultiLvlLbl val="0"/>
      </c:catAx>
      <c:valAx>
        <c:axId val="80570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36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372-67D4-4EEC-84A6-2E0C4A96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145-3237-4887-90F2-78AE7DBF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E7E-8106-450A-A293-D66DDAFF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A68-7DEF-489C-AAA8-7493C523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12D-1F58-464D-A2FE-165BDB0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812-8166-4386-8FD6-E24ABAD2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237-A934-49E7-A18B-A132A3CE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649-CB9A-4F31-8450-02D7A42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E15-7538-4D4E-A66E-CFBB003C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B9B-F4EC-4E3B-9CE8-26496BC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64C-BC52-4522-9EEB-C9D919A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C09-2EED-4B66-9834-5C4A7248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0B05-70A5-4A52-847E-CBFF7BD399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