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12029"/>
        <c:axId val="10509523"/>
      </c:barChart>
      <c:catAx>
        <c:axId val="57612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9523"/>
        <c:crosses val="autoZero"/>
        <c:auto val="1"/>
        <c:lblAlgn val="ctr"/>
        <c:lblOffset val="100"/>
        <c:noMultiLvlLbl val="0"/>
      </c:catAx>
      <c:valAx>
        <c:axId val="10509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2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F60-2C41-43EF-B32E-4366E9F1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3D3-347C-4C27-B362-77E4AC7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2BA-1A4A-456F-BE1C-7EB47D2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E79-0E03-4BD7-8616-8C1B7A6A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1EF-E855-46B6-BB21-DA7F137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930-9E55-47FB-92D2-AC748E6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794-E051-404B-8993-451E0486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868-DE39-41AF-A334-A18ACC49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694-D7C5-4055-ABD7-BA32BDD4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701-1BA4-4036-82C1-F6D419D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2B2-0A85-485F-9A45-169F863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D4C-E4C3-414E-A363-4295794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9F717-E0D6-436F-9CF5-6A829692C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