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7823"/>
        <c:axId val="18769790"/>
      </c:barChart>
      <c:catAx>
        <c:axId val="7297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69790"/>
        <c:crosses val="autoZero"/>
        <c:auto val="1"/>
        <c:lblAlgn val="ctr"/>
        <c:lblOffset val="100"/>
        <c:noMultiLvlLbl val="0"/>
      </c:catAx>
      <c:valAx>
        <c:axId val="18769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7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60F-634A-4AF0-AC49-B2546475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86D-49D3-4DB4-9971-BADB97E6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1CF-6760-4B4D-8FCF-5D51F2D1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F18-5B86-4389-8111-6C1BED49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C46-0B66-40F6-B1D9-F3A31966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7F9-B0CB-4477-8A9C-B6814F31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D7C-B96B-469D-B966-693CF5C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C31-F525-421C-8802-5879BDFD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B34-0DA1-4D8D-AC46-35306D94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CB0-DB9A-4EF9-AF52-5615F4E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07C-C085-4D51-88C9-A971980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6C9-1246-4054-B28F-6D5A93F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15A07-72B3-404C-AC6D-9F5CC1CB34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