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237623"/>
        <c:axId val="15316695"/>
      </c:barChart>
      <c:catAx>
        <c:axId val="332376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316695"/>
        <c:crosses val="autoZero"/>
        <c:auto val="1"/>
        <c:lblAlgn val="ctr"/>
        <c:lblOffset val="100"/>
        <c:noMultiLvlLbl val="0"/>
      </c:catAx>
      <c:valAx>
        <c:axId val="153166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2376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CCF4-0344-4A24-8109-A584550CE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F86A-AC43-4959-9AA1-012C39E76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16F9-861D-4032-A9DB-0873D5125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6F12-548A-4AAA-BC93-7C6FA88AF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AA5D-8E6E-49C5-B592-BD3157C54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55F1-F72E-4083-AC0C-19A72C040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BCFB-6CD1-4C93-88CC-E85EFB87E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363F-04D0-408E-97E2-059CE9EFE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35AF-AD2B-46C0-9FD5-17A83942D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3C7C-E1CD-44D5-9A23-AF024A0E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24E3-F90D-4A43-B8E8-66ADF3E7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FCFC-ADE1-4A1C-BCA6-8BB3D53E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8FCFC0-8EB9-49CF-8378-F73FB3B32D9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