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21817"/>
        <c:axId val="30084641"/>
      </c:barChart>
      <c:catAx>
        <c:axId val="23221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4641"/>
        <c:crosses val="autoZero"/>
        <c:auto val="1"/>
        <c:lblAlgn val="ctr"/>
        <c:lblOffset val="100"/>
        <c:noMultiLvlLbl val="0"/>
      </c:catAx>
      <c:valAx>
        <c:axId val="30084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1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896-30C7-46C8-83D4-B44FB97E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9BE-42F7-46DD-8102-BF64A6E8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AEE-59D0-4F6D-82E4-A46A5676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3F8-9961-4422-8F20-57102E22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0F6-A035-415D-8180-838719C1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9EA-1A7A-4AF0-92AF-DC5D00EC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18E-4397-449C-A628-E50D1F6C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3BB-1D62-44A9-8884-DCC0838A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AD-0547-40E7-9879-BA20D955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233-85C0-442B-99DD-40E4AF4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EF0-296F-491E-BE91-E642DB1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D86-C56A-46A7-B469-6878CFC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3F318-91C0-40E8-94AD-67BE168A1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