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81870"/>
        <c:axId val="9410248"/>
      </c:barChart>
      <c:catAx>
        <c:axId val="40181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0248"/>
        <c:crosses val="autoZero"/>
        <c:auto val="1"/>
        <c:lblAlgn val="ctr"/>
        <c:lblOffset val="100"/>
        <c:noMultiLvlLbl val="0"/>
      </c:catAx>
      <c:valAx>
        <c:axId val="9410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81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AEA-DF7E-4D85-9C10-8C34F06B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29D-A5EB-44D1-A61B-A01971A7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29B-1BDF-43D4-BD0C-215C552D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3C7-8793-4516-A608-3E0C870E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DDC-0525-4E84-B5D8-6D61E160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8EE-5870-4AC2-8E6F-EF0DBA40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581-FA3D-493D-A0B7-99506E08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EA2-2A0A-4736-8739-1F4DAA7B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CD6-7ED5-41FB-A195-F8116368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99F-2871-40E8-A2A6-C988574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E7C-1CF7-4864-B3A8-4B44E874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A1D-B6E2-45B5-94C9-E44763F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D3B05-701B-436F-9387-349D8DAD8C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