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75586"/>
        <c:axId val="84434442"/>
      </c:barChart>
      <c:catAx>
        <c:axId val="48675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34442"/>
        <c:crosses val="autoZero"/>
        <c:auto val="1"/>
        <c:lblAlgn val="ctr"/>
        <c:lblOffset val="100"/>
        <c:noMultiLvlLbl val="0"/>
      </c:catAx>
      <c:valAx>
        <c:axId val="84434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5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489-3989-431C-A037-06CD86A1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49E-8E90-4ADB-AAE8-5A45E79E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12C-A874-4388-970A-6C170221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1ED-5946-42F2-BD39-5529B294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975-534B-45FE-9934-51967983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129-1C97-48CD-A2BC-1F1A55E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2F5-9E98-46ED-9F58-C5ACBB4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AB3-4DF7-4DEC-8D83-A39CF9F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9D4-5DB6-455F-A5B6-2645BBF1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42D-AD84-42D1-8B4C-8D9F843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358-0357-4834-A800-AEB44CC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398-0F3E-4D98-9912-BC6D9BD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D1CB-5B9A-427B-8125-96B3B55D6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