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7655699"/>
        <c:axId val="94311141"/>
      </c:barChart>
      <c:catAx>
        <c:axId val="7765569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311141"/>
        <c:crosses val="autoZero"/>
        <c:auto val="1"/>
        <c:lblAlgn val="ctr"/>
        <c:lblOffset val="100"/>
        <c:noMultiLvlLbl val="0"/>
      </c:catAx>
      <c:valAx>
        <c:axId val="9431114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765569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E0142-D2AF-495C-94CF-BC5E924C1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A2DBF-7821-4AE5-8A1E-9A25B02B4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EBF9C-07CE-439A-A9B7-0E050ED34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80CF1-B806-4B2E-80F7-7A5EC6FC1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64CB8-857B-44D3-BF08-18A428BDA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B870C-B5B2-414D-9852-6BB8C79CF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152A8-5B44-499F-A575-847033412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1F4BF-2D05-41A1-83B6-F6FFDEF16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B20C0-4483-46A7-A265-EA9E936AE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0B8AE-711A-472C-9F6E-AAF41D918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04F47-70A0-4BA3-8D65-BAA07201C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7F009-F155-43CA-8D08-6E800B2D9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C2423B-613C-41FD-A2D3-F6F417205E0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