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60623"/>
        <c:axId val="83767229"/>
      </c:barChart>
      <c:catAx>
        <c:axId val="24360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67229"/>
        <c:crosses val="autoZero"/>
        <c:auto val="1"/>
        <c:lblAlgn val="ctr"/>
        <c:lblOffset val="100"/>
        <c:noMultiLvlLbl val="0"/>
      </c:catAx>
      <c:valAx>
        <c:axId val="83767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60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BC9-DF02-4140-9120-0A1801AF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CCB-7C92-4CCA-B4E3-18A3CD78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158-520A-4913-9E6A-2A82A40CF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53A-82F8-4657-9C5E-169910FC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7BA-6409-4950-B13D-6D82B977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8BBA-A340-4C38-8E37-FECE666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C75-F08E-4DD4-A411-8C6E57A2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3DA-5540-470E-A0B1-C181541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1C9-7898-4D6A-BAA9-80268FA0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7C7-427F-46B1-8770-1BBB9E8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62B3-FB19-465D-979D-B12EF751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F8B-2B96-4627-8135-7DC7ED0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3773-BA89-4B19-B313-B6AE28C2AA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