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2461"/>
        <c:axId val="43781987"/>
      </c:barChart>
      <c:catAx>
        <c:axId val="1462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81987"/>
        <c:crosses val="autoZero"/>
        <c:auto val="1"/>
        <c:lblAlgn val="ctr"/>
        <c:lblOffset val="100"/>
        <c:noMultiLvlLbl val="0"/>
      </c:catAx>
      <c:valAx>
        <c:axId val="43781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2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1B6-D064-499B-813F-F99F420E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95A-D0E8-488B-BF40-61A57A9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0C9-CE75-4C0D-A5FE-8696EA12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C01-804B-45F1-996C-46A937CF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8C4-0FC5-4EB0-9466-1B8533C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5B0-9190-4278-B524-297CB2F7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5D3-016C-4464-8324-94BFE7F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D2C-FD29-42CB-B371-AA50DEC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02C-B5EA-492C-99F5-16DAC9E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A7D-6ADD-4658-88D0-CB288089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8DE-CB78-4B3A-86FE-4461A3F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333-8FF6-4638-9E54-D6F50EE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7F737-531F-4A6C-9BEE-E0FA105C63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