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35627"/>
        <c:axId val="99252223"/>
      </c:barChart>
      <c:catAx>
        <c:axId val="1873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2223"/>
        <c:crosses val="autoZero"/>
        <c:auto val="1"/>
        <c:lblAlgn val="ctr"/>
        <c:lblOffset val="100"/>
        <c:noMultiLvlLbl val="0"/>
      </c:catAx>
      <c:valAx>
        <c:axId val="99252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3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EED-CDB7-46DB-A387-48BC4484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B8B-6977-4DD0-8EB1-F77E91E2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634-EAF2-4B8A-AA52-3582E0F4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181-7E3B-4595-AC23-EDC274B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2014-4B73-4084-BFC2-D341156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5A4-6228-445A-8ECC-A208794F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5AC-38F2-4397-8D44-CB2CC75C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37A-1E9E-4B59-8106-1F3B15F3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A67-62F0-4433-ACFF-521A3EA5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AE0-4DEF-4016-8D1C-08B90E0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5AB-3D8D-4DC7-880D-68045D61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9D3-DE58-4A86-A9F9-A630779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B74B-A4E3-4EF1-B2BB-3A63316EA9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