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133031"/>
        <c:axId val="71689416"/>
      </c:barChart>
      <c:catAx>
        <c:axId val="681330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689416"/>
        <c:crosses val="autoZero"/>
        <c:auto val="1"/>
        <c:lblAlgn val="ctr"/>
        <c:lblOffset val="100"/>
        <c:noMultiLvlLbl val="0"/>
      </c:catAx>
      <c:valAx>
        <c:axId val="716894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1330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7292-6E0B-42B5-A8B9-81EE9A97C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5017-FFFA-419D-BA2A-23567B211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315A-7A9B-4370-8272-E66316AEC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9028-103E-473B-89C9-0E6AFC4F1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41D0-40E1-4F75-9321-2A86DDE7A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B8F5-E0DA-4087-AE39-A7829BEEF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D596-14EF-48AC-9DB2-E83421D59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4288-DF43-4110-AB20-774EF857D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3BE3-EE16-44F2-992E-B2E7AD37C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E4C1-3687-4A73-B309-A4C80E90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893E-95A6-4DE7-AC9B-0ED2329B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A2F9-F59D-4A28-802E-32E4D512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6F6A44-E6FF-4472-9461-79B3B902184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