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45624"/>
        <c:axId val="74066633"/>
      </c:barChart>
      <c:catAx>
        <c:axId val="91245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66633"/>
        <c:crosses val="autoZero"/>
        <c:auto val="1"/>
        <c:lblAlgn val="ctr"/>
        <c:lblOffset val="100"/>
        <c:noMultiLvlLbl val="0"/>
      </c:catAx>
      <c:valAx>
        <c:axId val="74066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45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506-1FAD-44F2-95E8-D28E0F3F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8F8-0BA5-4F84-8C9E-27D4EC39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CC7-B281-4EF1-8E04-8C16F307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443-1C7A-45C1-9490-480B317E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969-EA81-4A50-AFF2-0F06B01C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57C-6776-4EB8-8D7B-10E8A638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8CF-4672-450C-9A18-739AE396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716-EA77-4C5A-8B74-EA7D1D13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382-3716-44E6-A202-B91EDD4A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B9A-4123-4535-B7AE-44548FBE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269-DEE0-4207-8AFA-5BA933BC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294-FCE1-48CD-991F-F2FF5E67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EDDCC-6F98-49EF-9A78-A6EA41ECF0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