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90103"/>
        <c:axId val="47733178"/>
      </c:barChart>
      <c:catAx>
        <c:axId val="42390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33178"/>
        <c:crosses val="autoZero"/>
        <c:auto val="1"/>
        <c:lblAlgn val="ctr"/>
        <c:lblOffset val="100"/>
        <c:noMultiLvlLbl val="0"/>
      </c:catAx>
      <c:valAx>
        <c:axId val="47733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90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54A-1F74-4810-9AA9-AC57EB1D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EC2-0259-4A2B-BFCB-360349F4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FC5-F869-4609-8854-FE0B1177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443-62A7-4BE7-9BCC-FDC3AFA5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7A2-0047-42FC-A10C-01D58EA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727-6D38-4196-BE35-B525A988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71D-7A4D-43F0-80B8-E57002C7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E6C-F458-4D6E-BACF-1159D6B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623-FEA7-46ED-886A-CA6D2872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891-B68D-4A2D-8FF4-B4FDCA6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DFA-8614-43CF-91EC-35519D1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18C-297A-4436-B692-FB4AB51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092DF-935F-49FD-A158-3B1E20C23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