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07222"/>
        <c:axId val="71352646"/>
      </c:barChart>
      <c:catAx>
        <c:axId val="81907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2646"/>
        <c:crosses val="autoZero"/>
        <c:auto val="1"/>
        <c:lblAlgn val="ctr"/>
        <c:lblOffset val="100"/>
        <c:noMultiLvlLbl val="0"/>
      </c:catAx>
      <c:valAx>
        <c:axId val="71352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07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AC4-3C1D-401A-BFB4-DF689C02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31D-FD68-45F5-994B-F55BA100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B3A-3679-4BC1-83B8-A8B6F7E3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EFE-5505-4BB7-9039-8AE3816A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6F7-E7ED-4BAF-8934-CF4C33A5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F07-AA75-4558-B6F6-7CA69F4E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559-7F19-4A54-A048-D920075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EE0-3675-46AE-817E-F1302CB7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61A-54A9-4CAC-905C-874067F1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FC4-6C30-4D95-861E-7E9EF81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3C9-28DE-47DF-91FB-B8D6DEF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5B6-B0AF-4D82-BFE0-0673CFA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EFC31-551A-4064-8EAB-3F0C72945D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