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21063"/>
        <c:axId val="84130807"/>
      </c:barChart>
      <c:catAx>
        <c:axId val="37321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30807"/>
        <c:crosses val="autoZero"/>
        <c:auto val="1"/>
        <c:lblAlgn val="ctr"/>
        <c:lblOffset val="100"/>
        <c:noMultiLvlLbl val="0"/>
      </c:catAx>
      <c:valAx>
        <c:axId val="84130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21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039-A047-418D-A40A-5EF37AF7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35D-8C58-4B1D-B4C7-D3B79911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65C-9616-4F36-87AB-DC57B4EA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7A8-C9D5-4DC5-8591-510AAB1B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508-8E90-4BA4-9CDD-EA1EDA86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79A-D9EF-47EA-8EC9-3A1C931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C0B-9DB4-4DC4-AD62-52CB6702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91F-61DB-4C93-8FD8-A3133CED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A58-0DDF-471F-866B-9C35F6E6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8A5-7245-415E-9FD4-71732BDB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E24-0CEE-4924-8713-2D266E8A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95E-CC93-4F82-8CB8-8DF19F9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02038-253E-4D4A-804C-75B0D86153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