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03620"/>
        <c:axId val="98382900"/>
      </c:barChart>
      <c:catAx>
        <c:axId val="29003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2900"/>
        <c:crosses val="autoZero"/>
        <c:auto val="1"/>
        <c:lblAlgn val="ctr"/>
        <c:lblOffset val="100"/>
        <c:noMultiLvlLbl val="0"/>
      </c:catAx>
      <c:valAx>
        <c:axId val="98382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03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A72-8825-4622-98FE-13D419E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C7B-5D7C-497E-A355-5D4C48C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4DE-BCAD-4E53-846E-62E55862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213-3F1C-4069-94FD-6FFE99C0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05-F844-4F1A-82CC-C30C6F2C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706-8248-4C12-8638-589463A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C03-B548-4A22-BCAC-85957188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742-C0C1-4FF1-B345-0F70E6A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3E4-6BDD-4CF2-B780-087CCAC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74D-C39B-4FF7-8404-6EB3705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E1E-019D-41B7-8676-98100C9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EEF-4B64-488B-84E0-4A55679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73946-0461-40BD-878C-0204107B6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