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0893"/>
        <c:axId val="16172712"/>
      </c:barChart>
      <c:catAx>
        <c:axId val="38808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72712"/>
        <c:crosses val="autoZero"/>
        <c:auto val="1"/>
        <c:lblAlgn val="ctr"/>
        <c:lblOffset val="100"/>
        <c:noMultiLvlLbl val="0"/>
      </c:catAx>
      <c:valAx>
        <c:axId val="161727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08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277A-17CA-4ADD-9333-3BB8E359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0145-9F68-423C-9753-9A0D4AEE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46B8-DC30-4DF3-94F6-7082E1E6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F81A-E45D-402B-9D0C-80A2DC75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FCE2-CF20-4C1B-8FF1-3A81494E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6213-9564-417E-8B1D-0DCDEB1A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4527-F775-451B-850E-2E84F001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3B8E-FA2C-4320-82FD-B9BAFE5D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691F-D661-4908-9AC9-B6E34F95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A3E2-DE30-4A0F-BD42-23B07686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F823-28A4-49F4-B63C-C400EA85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B031-FFF1-4090-A3D9-CA31D3D6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F4849-F4B5-4965-8A2C-F9730032D1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