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39643"/>
        <c:axId val="58509872"/>
      </c:barChart>
      <c:catAx>
        <c:axId val="74939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09872"/>
        <c:crosses val="autoZero"/>
        <c:auto val="1"/>
        <c:lblAlgn val="ctr"/>
        <c:lblOffset val="100"/>
        <c:noMultiLvlLbl val="0"/>
      </c:catAx>
      <c:valAx>
        <c:axId val="58509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39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EB2-5250-4204-A970-604E6D05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F65-A874-493D-8A94-3161D89D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259-BE38-4C07-8EB6-051130EB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9D3-C071-4694-ABB8-F3484A4D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06F-0620-4B5C-AF54-FB3414C5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060-FCCE-48C5-8B8A-EA9AB7CE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ED7-E1AF-49A0-91EE-CE9EEB1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D70-2B1F-46A8-BAF5-FE6D9EC1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99E-B1BB-4B60-BB9E-F755C944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047-C026-4C83-8984-08E158B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05D-546B-4D2D-80B0-46BCC5A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AB9-49D3-4F3D-AE30-2037E59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91512-ECC9-4ECA-9C14-6F28E9F162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