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357622"/>
        <c:axId val="82509381"/>
      </c:barChart>
      <c:catAx>
        <c:axId val="113576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509381"/>
        <c:crosses val="autoZero"/>
        <c:auto val="1"/>
        <c:lblAlgn val="ctr"/>
        <c:lblOffset val="100"/>
        <c:noMultiLvlLbl val="0"/>
      </c:catAx>
      <c:valAx>
        <c:axId val="825093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3576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7CC1-CD20-44B6-A378-9B1FFD61A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645F-3AFF-4170-9130-AA4B2078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774D-6DC3-42D3-AD19-A85793811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3E37-1697-49D9-8572-C126E77C0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18EE-D9FB-47C8-8E5C-BB9A5A23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0ABA-4BE8-4A2C-A37F-B046F1E5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9886-6AAA-4410-93C9-9AC77B72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69B8-EFDD-4B4A-BC8E-36C92F8E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8B38-7CC4-4565-A7AD-8BE63B49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1BEB-6A41-41B1-A390-6F58E819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D30C-BBBE-40C8-BD93-469E630A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C729-D37C-4F87-907F-94238A96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667744-04F5-413F-86E0-0B5BD73602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