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942546"/>
        <c:axId val="13295370"/>
      </c:barChart>
      <c:catAx>
        <c:axId val="594254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295370"/>
        <c:crosses val="autoZero"/>
        <c:auto val="1"/>
        <c:lblAlgn val="ctr"/>
        <c:lblOffset val="100"/>
        <c:noMultiLvlLbl val="0"/>
      </c:catAx>
      <c:valAx>
        <c:axId val="1329537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4254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B4CF-C46A-4E4E-A9A4-0CE3301A0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2927-03F4-4FEB-BBA6-0F3FC6F40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D9DB-70B3-45EA-BAD8-64177BCB5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7647-31F7-4E0C-977C-A7C89AF1E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07A3-96AA-46BF-B042-AF9DEDA81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671D-15ED-4DE3-B4E7-C6904FBDF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913B-8D70-4777-BFDB-44E7EF212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0DBB-1CF0-4D0C-BEA5-8F6278328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E690-395C-4990-B751-91885F62F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3EC2-F687-4E25-8EC8-B44C95D7D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FC35-89BF-4FF1-B94A-47D98C5E9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AF11-A241-475B-9524-43123CEFB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B05504-2190-4FFF-81B2-DB71A60D0B0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