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25234"/>
        <c:axId val="82564894"/>
      </c:barChart>
      <c:catAx>
        <c:axId val="91325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64894"/>
        <c:crosses val="autoZero"/>
        <c:auto val="1"/>
        <c:lblAlgn val="ctr"/>
        <c:lblOffset val="100"/>
        <c:noMultiLvlLbl val="0"/>
      </c:catAx>
      <c:valAx>
        <c:axId val="82564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25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10F-7E41-4EEA-87C5-26980038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A36-5784-4185-9053-5BDD6D9B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47C-1B18-4C08-AFD0-BF933142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5AC-172D-421F-A0CD-39EB468D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A0D-884D-40BA-8BDB-4A363981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C7C-76E5-484E-8C62-5F913E8E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BB9-9AFA-452C-8DEC-53EF338B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94E-3FE8-46A7-B21B-BFB982BE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8C7-7C15-4428-9592-32B722F2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27B-5207-4C06-B788-080804C2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C9F-8F65-40BE-9F1F-7131B8CB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934-4180-4BC9-9445-270C0897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9A44E-CE05-4666-B40C-4D4ED967CF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