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367457"/>
        <c:axId val="65593941"/>
      </c:barChart>
      <c:catAx>
        <c:axId val="573674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93941"/>
        <c:crosses val="autoZero"/>
        <c:auto val="1"/>
        <c:lblAlgn val="ctr"/>
        <c:lblOffset val="100"/>
        <c:noMultiLvlLbl val="0"/>
      </c:catAx>
      <c:valAx>
        <c:axId val="655939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674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9320-B752-4F89-9664-0D3504AFF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4128-5B48-4CBE-80AB-714560BC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CD86-6D1A-4AA4-ABD8-358FDE25F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3F7C-7988-4092-BC26-13327E8B0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06E8-59AD-431F-A1FF-31951659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E81E-AD71-48AB-B801-210EE31E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4F1F-CF48-4E63-B792-7D7A09B1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C8B5-45F9-4897-8D64-08B260E5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BDEB-4C97-40CF-93FE-220E912A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C215-20EC-4625-8048-14C59675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3735-CC76-4BF0-B0EF-CB39E8A0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EA17-8A79-432C-87D2-F53483D9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99FCC-89B0-44B4-9AE5-8F8AC2A514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