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475691"/>
        <c:axId val="61596512"/>
      </c:barChart>
      <c:catAx>
        <c:axId val="804756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596512"/>
        <c:crosses val="autoZero"/>
        <c:auto val="1"/>
        <c:lblAlgn val="ctr"/>
        <c:lblOffset val="100"/>
        <c:noMultiLvlLbl val="0"/>
      </c:catAx>
      <c:valAx>
        <c:axId val="615965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756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4459-6288-45DB-AEF2-CC792258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A4BE-8668-4434-93E1-AA160077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F997-7BDE-4246-BF47-D5503545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4A11-312C-4EA1-88E6-E27E87E4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3BAE-794D-44E0-A2BE-AB096F29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6FFD-2EF4-4ECB-9DF2-22004EBE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7777-0889-4C56-921C-EB9B0F08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C23B-7CFD-4FCA-848B-15A82325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E478-EF4B-43AA-97DF-DE975009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5E41-FD3F-4676-B5E6-7B770B26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8A90-0F4E-4DCD-A374-5A09345C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CBEA-E1D4-47D3-A9D5-9DBB6C6F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B8ACF-85F9-4F48-BA4B-94E3B3ECED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