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29309"/>
        <c:axId val="47385875"/>
      </c:barChart>
      <c:catAx>
        <c:axId val="42929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85875"/>
        <c:crosses val="autoZero"/>
        <c:auto val="1"/>
        <c:lblAlgn val="ctr"/>
        <c:lblOffset val="100"/>
        <c:noMultiLvlLbl val="0"/>
      </c:catAx>
      <c:valAx>
        <c:axId val="47385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29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DD4-2698-4006-AFA9-DFF7226B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867-7A5D-48AF-8CE4-908DFA81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D44A-22A8-4919-BB05-4CA1BB58D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087-BEB2-408E-A146-EE017FE7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102D-7EAD-424F-95EF-0FCD4C7F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E1A-6040-4159-A7C0-425806A4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5F7-F47C-4974-B099-EFC6A9A5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E4D-2CF2-4534-9ED5-EC11A197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BAA-B293-4B59-9018-C38035FA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64A-3B3C-4820-9A14-A6E527E2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709-4CB7-4328-8471-B303CB63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E60D-CD6C-4316-8F36-A2EE1DF3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4299F-0097-4A84-906F-65346CB7D1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