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23577"/>
        <c:axId val="55018353"/>
      </c:barChart>
      <c:catAx>
        <c:axId val="25423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18353"/>
        <c:crosses val="autoZero"/>
        <c:auto val="1"/>
        <c:lblAlgn val="ctr"/>
        <c:lblOffset val="100"/>
        <c:noMultiLvlLbl val="0"/>
      </c:catAx>
      <c:valAx>
        <c:axId val="55018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23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91F-1E89-45F6-98DE-9E79CC68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A62-8F3D-4E18-9DAF-0203B0FB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FCF-9CAF-41AC-A5B7-4FF326B9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A62-461A-4BE0-84A6-8069336A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2B9-9092-42B7-8BCE-7783EBF4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3C4-C2EB-4B5D-91CF-20E842E6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557-396C-4A25-B579-2BA6A11B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4E4-A657-4E2D-899E-35DF57BB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A60-8359-49D7-A742-D31EDACE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4DD-0C22-47DF-840B-3DADF82E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5FA-17D7-4F71-BDDC-A6501785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AC1-8C2E-46BE-B0F6-20C564CF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ABF56-50AC-4FE7-B5B6-AC46373FF9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