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69577"/>
        <c:axId val="48416440"/>
      </c:barChart>
      <c:catAx>
        <c:axId val="47569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16440"/>
        <c:crosses val="autoZero"/>
        <c:auto val="1"/>
        <c:lblAlgn val="ctr"/>
        <c:lblOffset val="100"/>
        <c:noMultiLvlLbl val="0"/>
      </c:catAx>
      <c:valAx>
        <c:axId val="48416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69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3B9-6B78-4EF2-BBCC-EB8D5ACC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090-D8F3-4DF2-B230-E92A4F13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859-FFF6-4353-84C4-38CC2DEA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461-50D4-401C-A461-2A7B9A7B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059-8B5E-4235-94C1-3A880DCA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86D-E98D-45EC-91DD-06629969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DA4-EE9F-473D-98D8-C4FD6A50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DA7-A068-446B-9594-491239B5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56D-867F-491D-A57C-7365AA2F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6AE-1E89-405E-89B8-3C53ED5D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C07-2CA8-454E-AAA9-E339BB8C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D05-8985-4E71-84CA-D5E36F46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7C7A6-66BC-40E9-83EE-7F893912EB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