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60749"/>
        <c:axId val="88992677"/>
      </c:barChart>
      <c:catAx>
        <c:axId val="84160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92677"/>
        <c:crosses val="autoZero"/>
        <c:auto val="1"/>
        <c:lblAlgn val="ctr"/>
        <c:lblOffset val="100"/>
        <c:noMultiLvlLbl val="0"/>
      </c:catAx>
      <c:valAx>
        <c:axId val="88992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60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EED-87BD-41C1-BAE3-E1450C66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FB7-5AF2-42C6-83C5-9438D131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D56-FBF3-4A6C-A88C-BA0902CC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CBD-1EBD-4DC2-A0B6-A748C449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D10-E645-48E8-9318-985FE7FF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ACE-956E-43B8-BEE6-F3803080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C38-E13E-4742-9C14-EEE1E561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52E-C752-4498-8FAB-4737D9B7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658-DD69-4D37-8D43-FF0E5F7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989-3DE0-4FA1-B6AD-DD3FE28D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F8E-5A4F-45EA-82CD-34026581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386-98CB-431A-9ED8-B76091D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C72B2-B9AA-4378-A5A2-28E010B6D2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