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745361"/>
        <c:axId val="14298928"/>
      </c:barChart>
      <c:catAx>
        <c:axId val="197453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298928"/>
        <c:crosses val="autoZero"/>
        <c:auto val="1"/>
        <c:lblAlgn val="ctr"/>
        <c:lblOffset val="100"/>
        <c:noMultiLvlLbl val="0"/>
      </c:catAx>
      <c:valAx>
        <c:axId val="142989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7453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3548-F3FC-4D6D-82DA-EC50E3476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0D88-6364-4515-AAD0-3AEECF3D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37DB-56E9-4213-B75F-6CD5A3A0E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8967-8E97-4DFE-B3A3-054E34A3F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2B0A-1987-4961-9A44-CB99945F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7E06-CD80-42A1-A19C-35F022BD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7856-0128-4AD9-91DD-4AD5025F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6AA7-08F4-4BC2-85C7-A10FE6DB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CCF8-0B8A-4348-A648-067B301C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CEF1-3588-4665-A09D-623FCA8A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1A5A-2208-4143-9240-56E33C46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76A6-F5ED-45F2-A09B-7468BB8D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65CB7-C13C-4A5E-8D59-07BF2A43C6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