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80615"/>
        <c:axId val="87858237"/>
      </c:barChart>
      <c:catAx>
        <c:axId val="11080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8237"/>
        <c:crosses val="autoZero"/>
        <c:auto val="1"/>
        <c:lblAlgn val="ctr"/>
        <c:lblOffset val="100"/>
        <c:noMultiLvlLbl val="0"/>
      </c:catAx>
      <c:valAx>
        <c:axId val="87858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80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9B3-C966-4C64-936C-4106ABD4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C12-D78A-4103-A988-2AEF18B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930-A074-4D8C-84EC-C03EE1A4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5DE-9ACB-4379-81C6-43290EC2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F33-0E1B-4F35-98C9-27F2BDF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C02-5A6A-4501-85DD-2F758B6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9B2-7692-44C4-8459-1B35D22E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9B3-A6E1-42F5-A50B-DBD84344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2D7-560F-44AC-BB6D-567C11B4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593-B554-4B88-98E9-1D2DE02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C6F-CCD5-450A-8762-5ED200B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870-8B04-4F63-8063-6D69284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25260-08D4-473F-8220-3FCE145745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