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18347"/>
        <c:axId val="41803695"/>
      </c:barChart>
      <c:catAx>
        <c:axId val="81318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03695"/>
        <c:crosses val="autoZero"/>
        <c:auto val="1"/>
        <c:lblAlgn val="ctr"/>
        <c:lblOffset val="100"/>
        <c:noMultiLvlLbl val="0"/>
      </c:catAx>
      <c:valAx>
        <c:axId val="41803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18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EF1-4535-4B4F-B024-45D8EEF7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996-5B1B-4804-A9BA-D9677B4C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57D-8620-4703-B2A7-8A0A0712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ABB-003F-4773-978A-56ACD8BF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73D-87CB-41AF-B7BD-2C931D65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B7F-D15C-4587-BD9E-79F6A05D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588-4A63-4E23-9C0C-FD265095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C6A-D39B-4EFD-9A2A-13D1E439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19F-FC33-404A-9ADA-B130F580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967-E0AA-4D62-8ECE-B86EFD9C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068-EFC2-4E29-B5F9-D8D33911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C18-2FA8-4441-853B-7C1F92E4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B6942-FC92-45FB-82A5-7342D535C4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