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14751"/>
        <c:axId val="19453428"/>
      </c:barChart>
      <c:catAx>
        <c:axId val="23214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3428"/>
        <c:crosses val="autoZero"/>
        <c:auto val="1"/>
        <c:lblAlgn val="ctr"/>
        <c:lblOffset val="100"/>
        <c:noMultiLvlLbl val="0"/>
      </c:catAx>
      <c:valAx>
        <c:axId val="19453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4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E25-5550-4B0D-9295-53991161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78A-64CB-493D-89AE-3D185EB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B81-7F29-45D2-A596-9D8B668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763-F322-4AA2-8713-73CE40FC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F70-7CC5-483B-B754-1BB0519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9C7-1EF2-4CB9-8042-439D1E8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CA2-815B-4FB8-8A72-F9D330B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BBB-44EE-497C-A3CA-44E25B19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038-430B-49CC-8B87-FDF9730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FC6-779B-4B06-AEE7-399D4BA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102-198A-4A9F-9D39-4BEC823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CE3-C9BD-44A3-868F-13C0DB45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B6586-BF9C-46CD-8458-F4F7E22FC8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