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58878"/>
        <c:axId val="73156713"/>
      </c:barChart>
      <c:catAx>
        <c:axId val="56458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6713"/>
        <c:crosses val="autoZero"/>
        <c:auto val="1"/>
        <c:lblAlgn val="ctr"/>
        <c:lblOffset val="100"/>
        <c:noMultiLvlLbl val="0"/>
      </c:catAx>
      <c:valAx>
        <c:axId val="73156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58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AD4-68E1-4B48-829C-4736B4F2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764-9511-4C62-8A84-CEAA35E8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8C1-07B0-40E5-B97E-BDD8D91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162-4001-4E3A-A89D-F086A082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838-E7C5-40AE-8159-255DB1B2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AA9-7A87-4BC5-A46F-F22DFC3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70C-DC59-473F-8DDA-0BC13A1B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28E-5CB4-4221-85BF-7EF19BEC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9A6-429A-4B16-ABF1-98A0005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47C-B09B-4ADB-B49B-DB993DC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710-3F69-477E-946C-A310438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82C-A318-4A90-8769-C6A67B8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C842-EDCC-490C-B553-5478433C0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