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368264"/>
        <c:axId val="38663937"/>
      </c:barChart>
      <c:catAx>
        <c:axId val="713682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663937"/>
        <c:crosses val="autoZero"/>
        <c:auto val="1"/>
        <c:lblAlgn val="ctr"/>
        <c:lblOffset val="100"/>
        <c:noMultiLvlLbl val="0"/>
      </c:catAx>
      <c:valAx>
        <c:axId val="386639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682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1CD1-37A4-4649-A256-1F7A4D43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D6D8-8E9F-4B03-8C42-961966A5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FF8D-0124-47D7-8FD2-CBF2B0D4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FC5B-B7ED-40DF-B79A-967A357F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4E97-62E9-4625-A4CB-508F86CA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E843-83FE-4300-8FF7-DEC3224B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8C80-7144-477C-B837-047B824E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110C-3F39-4FBB-AAC0-1F232458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EDDF-C8C0-4A3B-B5CF-79C80C84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1BF9-D41F-4F6A-91AA-FF493518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5F0C-0211-4301-9DEC-AC23CC1F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2867-B21A-4349-91B7-E2DDE8A3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6B113-8330-4473-AB6F-051B6FAA85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