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9414"/>
        <c:axId val="99705892"/>
      </c:barChart>
      <c:catAx>
        <c:axId val="76259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5892"/>
        <c:crosses val="autoZero"/>
        <c:auto val="1"/>
        <c:lblAlgn val="ctr"/>
        <c:lblOffset val="100"/>
        <c:noMultiLvlLbl val="0"/>
      </c:catAx>
      <c:valAx>
        <c:axId val="99705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9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772-E69A-4379-B2A4-53131D7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A70-1879-4F4F-8C6C-F2947B0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2A6-A1F6-4707-AE82-5A526D11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6E7-A5C6-4C71-8BBA-A0D73DD7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2B7-F155-40FE-B352-2DD4A146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7F0-610D-4D84-9FEB-28FE59F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A87-0624-4236-82AD-EC977F8E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F65-C60D-4FA4-A81D-4AFE37D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5B1-799B-4A50-94E1-0350375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404-DA21-4ABA-B1AD-18B5D69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C87-0A60-48D5-8554-B250270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1EF-8577-487E-9452-EF147C6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B75B9-D86A-45D4-8C1B-48FA15F4F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