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70763"/>
        <c:axId val="30542676"/>
      </c:barChart>
      <c:catAx>
        <c:axId val="49570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42676"/>
        <c:crosses val="autoZero"/>
        <c:auto val="1"/>
        <c:lblAlgn val="ctr"/>
        <c:lblOffset val="100"/>
        <c:noMultiLvlLbl val="0"/>
      </c:catAx>
      <c:valAx>
        <c:axId val="30542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70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3B5-D8E3-4F79-A4C6-2297BE88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38E-34D0-4F6C-B213-1806DB74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EDB-746E-4832-AEEE-9BA7D46B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420-0C5D-486F-A05D-60097E68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B20-2B69-448E-BC5A-318D8382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A77-61FD-4AD9-9254-9349358D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744-6F10-4FE5-A1F8-80473BE1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E64-BDBF-48A1-ACE8-343E1E3E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0C2-62DE-4DF8-8093-25AF4E1C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AF5-BC14-4809-A1DB-0FD41FFD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8CF-43F7-4FFA-BA99-1F2D7183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C2B-011B-43D3-B850-6E571990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5639F-0D5C-4CEA-A982-44F6943A7D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