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64575"/>
        <c:axId val="18652671"/>
      </c:barChart>
      <c:catAx>
        <c:axId val="75464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52671"/>
        <c:crosses val="autoZero"/>
        <c:auto val="1"/>
        <c:lblAlgn val="ctr"/>
        <c:lblOffset val="100"/>
        <c:noMultiLvlLbl val="0"/>
      </c:catAx>
      <c:valAx>
        <c:axId val="18652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64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0EA-B582-4972-9FE6-6E853008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5D50-CBF5-49BD-865E-3F9876B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92E-2E44-4B2C-A4DB-FF2AD021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D54-201A-4D49-B50E-921F09E7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796-E5A6-48AD-972F-48CE46AE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FFDA-5318-47C3-90B9-A220DACD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5CA-F1C8-4FD9-A541-6E67F673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D47-5E5C-40BD-96FF-B9E11CA9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5AFC-90A7-45D9-AFA5-B30B8AB2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5DA-03BE-4C1A-86FF-864A5BED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C71-BEC1-4A31-95E2-2782BD3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CF7-B1FD-4922-878B-4772127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B0CD-F387-48D7-983D-08C8F48F85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