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46611"/>
        <c:axId val="8557614"/>
      </c:barChart>
      <c:catAx>
        <c:axId val="98446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7614"/>
        <c:crosses val="autoZero"/>
        <c:auto val="1"/>
        <c:lblAlgn val="ctr"/>
        <c:lblOffset val="100"/>
        <c:noMultiLvlLbl val="0"/>
      </c:catAx>
      <c:valAx>
        <c:axId val="8557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46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8B1-10DF-4D8C-80E4-1BFCC631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13A-7DAA-40D5-9DAF-613DD5F1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140-DFCC-4416-B7E9-9BD23B84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EB5-2D53-4526-ACCC-62DE3F2A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CB6-D39D-426A-9B2B-1ACF8712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396-FACD-431F-872A-F8F04621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D74-613D-41A8-AF34-449F1AE0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C95-E57F-4365-A65B-0ED77710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B13-572E-4A18-B462-4E0DBBFF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DC3-5F11-450B-BF47-CCADC164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E0C-F70A-4949-8FA3-E000FCFF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A08-FB29-48FD-A855-E119A0A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9569A-B81A-443F-BB30-467D2FA77E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