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3208"/>
        <c:axId val="28709521"/>
      </c:barChart>
      <c:catAx>
        <c:axId val="5913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9521"/>
        <c:crosses val="autoZero"/>
        <c:auto val="1"/>
        <c:lblAlgn val="ctr"/>
        <c:lblOffset val="100"/>
        <c:noMultiLvlLbl val="0"/>
      </c:catAx>
      <c:valAx>
        <c:axId val="28709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3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399-7AB1-42EB-B696-ACEE7856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14B-6954-4F66-BB43-90AFEB09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6C7-7319-411F-80C8-7C894FEC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5C2-3171-4159-93DB-7A980E74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C2D-4DBE-4078-B254-755B581B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1AA-297B-425C-9EE7-BF56AF09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5CD-8E25-45D0-95D6-D0D86FD5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8F8-D766-4611-9557-57886DF7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EB3-7DAE-4D11-A047-ED39FEE1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8B4-7C76-4CB8-BD8C-F8AD731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BFD-D6DD-4FF8-83B3-EC5287B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AFC-0D55-4DC0-A021-D918F4A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20668-7597-4B2F-B591-AD6978B1C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