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6648"/>
        <c:axId val="56779936"/>
      </c:barChart>
      <c:catAx>
        <c:axId val="13746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79936"/>
        <c:crosses val="autoZero"/>
        <c:auto val="1"/>
        <c:lblAlgn val="ctr"/>
        <c:lblOffset val="100"/>
        <c:noMultiLvlLbl val="0"/>
      </c:catAx>
      <c:valAx>
        <c:axId val="56779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6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41C-BA86-45F0-8F57-651E40F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6B5-66D8-4DE1-9D29-02478AD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CEB-4CD7-434E-B118-F47E8EE5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7F8-C997-4EB1-BA7D-D5B3DB81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516-11D6-47A4-B1A9-537CA0D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BB9-A00F-4DDF-8175-2531524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DCA-6674-46E6-B743-DC4B8711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901-C81A-46B3-B1E7-FBA79AD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B49-3F55-4D62-B86C-7BA139E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C5E-F932-4899-913F-A66023C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25C-CDE0-44B1-B98A-7622547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3A1-3C5F-4B4A-879B-681154A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B8922-AB6B-4768-B0FF-AC7FFCB32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