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60355"/>
        <c:axId val="24044562"/>
      </c:barChart>
      <c:catAx>
        <c:axId val="73560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44562"/>
        <c:crosses val="autoZero"/>
        <c:auto val="1"/>
        <c:lblAlgn val="ctr"/>
        <c:lblOffset val="100"/>
        <c:noMultiLvlLbl val="0"/>
      </c:catAx>
      <c:valAx>
        <c:axId val="24044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60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4D7-4CA6-4205-AD98-EFE1B3A4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563-01AB-45FE-81DD-5C3665B1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3148-0F8D-4CB2-914D-9C3B55CA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590-8268-44C3-9C2B-DBF2D0AF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37D-985A-40AC-B1FB-206FE983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D97-D535-4399-B2B5-970DBD0F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EEB-8760-4CC8-B0B3-094D7E43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D1C3-B7BE-4AE3-AE5A-77497E6B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891-8201-4F16-A647-086C2224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855B-5B50-4756-94A1-E2EF72FA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E78A-6D13-499A-93B3-DD60D1DC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C39-6560-40A1-9B6A-E1F3DD2B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6BA86-3FCA-45AC-8D18-61FAD4B212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