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15909"/>
        <c:axId val="36042153"/>
      </c:barChart>
      <c:catAx>
        <c:axId val="31915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42153"/>
        <c:crosses val="autoZero"/>
        <c:auto val="1"/>
        <c:lblAlgn val="ctr"/>
        <c:lblOffset val="100"/>
        <c:noMultiLvlLbl val="0"/>
      </c:catAx>
      <c:valAx>
        <c:axId val="360421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15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653-434E-437B-A61F-EDC2A3B9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389-113E-4A02-9656-D494C224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936-2BF2-4825-9836-6A0E5076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7AE-7174-471A-B41C-3135E713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7D0-B780-4AFB-8401-15453CD6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03E-552F-4CFE-89E5-54BD5E5B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76B-7956-40C6-97FE-DB8927F5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947-FEEC-4BA0-8383-C4A94D0D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089-09AA-448A-92F7-6D5F9D91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1DB-321E-41ED-8432-B2710BB8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368-229B-46DF-BA64-164DE046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7E3-62E7-4103-82EF-CED08000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9C6FC-DB31-4853-8623-6E55DB719E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