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70693"/>
        <c:axId val="47148494"/>
      </c:barChart>
      <c:catAx>
        <c:axId val="16470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48494"/>
        <c:crosses val="autoZero"/>
        <c:auto val="1"/>
        <c:lblAlgn val="ctr"/>
        <c:lblOffset val="100"/>
        <c:noMultiLvlLbl val="0"/>
      </c:catAx>
      <c:valAx>
        <c:axId val="47148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70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F5A-7EFA-43C6-8353-5B6A9B88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2FB-50DA-45C8-B95A-571EEBA8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34D-7146-4C25-958F-6C359872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0E2-5851-4CDE-9655-09066DDE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516-9B46-4E03-BB26-BED9A665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0A2-0DD4-459D-AFB8-26CBF51D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8F7-A333-4FD6-A44D-141EA430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6A5-66C5-49CA-8561-D5BFB03C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480-483D-4963-9E1E-1DD20A41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62B-409C-4187-B597-4FD78B35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555-2DD0-40ED-A1F7-B9AF6D9D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F8D-F7DD-4E29-9844-E959D192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B7700-08C9-456E-9141-0EDC000062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