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14648"/>
        <c:axId val="98973869"/>
      </c:barChart>
      <c:catAx>
        <c:axId val="74214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73869"/>
        <c:crosses val="autoZero"/>
        <c:auto val="1"/>
        <c:lblAlgn val="ctr"/>
        <c:lblOffset val="100"/>
        <c:noMultiLvlLbl val="0"/>
      </c:catAx>
      <c:valAx>
        <c:axId val="98973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14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75C-391E-4D0B-B295-3708980D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646-ACE3-49DE-B9A5-DEAF5C6E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F71-1E72-4F58-B16B-C7620394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2B6-1F86-47CF-8126-050D6F16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BED-F3BF-445C-804D-6670823B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EB1B-4295-402F-8056-B1DE02DE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8EF-ACB9-4D33-90D0-20929A50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8F9-B327-49A9-9D3D-742A0B56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050-762B-4B1B-87C2-0B1301B9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E26-A297-421F-ABF2-785C2341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AF7-6358-4340-8AAE-51B8DD82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AAC-6EC2-4900-B7EA-C585B3A5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883A8-A96B-4ED6-906E-A30F7088C3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