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134741"/>
        <c:axId val="27488611"/>
      </c:barChart>
      <c:catAx>
        <c:axId val="911347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488611"/>
        <c:crosses val="autoZero"/>
        <c:auto val="1"/>
        <c:lblAlgn val="ctr"/>
        <c:lblOffset val="100"/>
        <c:noMultiLvlLbl val="0"/>
      </c:catAx>
      <c:valAx>
        <c:axId val="274886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1347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0B16-C728-41D2-A606-BD76CA004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942D-4DA2-44F6-8885-9E6C17FF4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1B8F-5AD9-4FC4-A673-DD1AB3B8F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67CB-5990-4585-B204-E00045AD0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E504-39E3-4190-9D6D-979998ED8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521A-3DC5-4EA7-B747-B8FECDD7F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9C58-C807-4C3B-8935-505CBEBE0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BC27-3E09-490D-A8BE-8356D832F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6C01-FDAD-4C00-8A76-2BE9BF35E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86CB-5A48-437F-8FD8-024E89FF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7643-CC91-45C1-BC78-F1B5B6FE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4C75-D7F6-40E5-AB27-A49B40E6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A43D81-6820-4663-A927-953F91228EC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