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845"/>
        <c:axId val="95410178"/>
      </c:barChart>
      <c:catAx>
        <c:axId val="39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0178"/>
        <c:crosses val="autoZero"/>
        <c:auto val="1"/>
        <c:lblAlgn val="ctr"/>
        <c:lblOffset val="100"/>
        <c:noMultiLvlLbl val="0"/>
      </c:catAx>
      <c:valAx>
        <c:axId val="95410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16D-8EF4-46E3-9B06-66EC9145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D06-2B82-45D9-A79C-7D3883F8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980-EE53-4563-BDF1-3C50989F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79D-2830-4A67-A3EC-6B62B715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999-3EB3-4543-A01F-972F469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9E7-96FD-41D4-8EDB-80C3258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6FB-7392-49D3-B90C-2B7E0CA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DFA-E109-4D32-B546-9FD730E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8F3-F300-4927-8F1B-6319DD52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5D1-966C-4E20-A257-FF218B5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FDC-1E45-477B-91EE-E13A98C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A52-2557-4A93-BAD6-32559F2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1A40B-1772-430B-8B4D-C080AB32D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