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90242"/>
        <c:axId val="76929111"/>
      </c:barChart>
      <c:catAx>
        <c:axId val="94990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29111"/>
        <c:crosses val="autoZero"/>
        <c:auto val="1"/>
        <c:lblAlgn val="ctr"/>
        <c:lblOffset val="100"/>
        <c:noMultiLvlLbl val="0"/>
      </c:catAx>
      <c:valAx>
        <c:axId val="76929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90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2BE-0756-4FD3-BD2E-100EC9EC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BA4-F553-4919-B2C5-51586E8C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34D-18B1-41DE-A0F8-199062F2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852-4D4E-4DDF-8733-7F49EC00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B5E-20E3-4440-90F2-276B95FF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E0B-CC4F-41CE-8635-C13B9E75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0A5-FA23-4756-80DE-8A885033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419-DC93-4466-871A-3A356BFD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620-93BC-46DF-9F60-38BA8ED4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D8D-9736-4C82-8925-C1423761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E9C-3EFF-4062-9EB8-BB71519B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881-92CC-46A2-ACDF-FD6A023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77C6D-47B9-4F67-B708-E9A532E1E4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