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06347"/>
        <c:axId val="71376492"/>
      </c:barChart>
      <c:catAx>
        <c:axId val="83406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76492"/>
        <c:crosses val="autoZero"/>
        <c:auto val="1"/>
        <c:lblAlgn val="ctr"/>
        <c:lblOffset val="100"/>
        <c:noMultiLvlLbl val="0"/>
      </c:catAx>
      <c:valAx>
        <c:axId val="71376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06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2EA-1B13-451F-BD6C-098ED194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CE2-9F42-4FD0-8F4B-3EA90296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FE5-F48A-404A-AC90-11A02D72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9AD-7442-411B-8F1D-F36971D7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B0D-F698-47F8-AF5E-A941DF25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C34-B075-4C5D-BEBC-4923C087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D0E-D9F5-4E25-8A77-476DD508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30F-554E-41C9-AC21-E8FD4510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F7D-9CC3-408A-9E6E-20433E31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319-9D95-42E3-AE40-5E09CED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3A6-B93D-4475-8655-DF793CB8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C0E-AD60-44EC-9357-F4C73F0B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EFFB7-ADEF-4D3D-91EB-7D28E791C8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